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8ED-66FA-486A-AA06-2E21FCCF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8CE-2C5F-477F-9C69-4359C0F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601-4AF8-4722-9C99-4307AE2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688-F13D-40BF-9A6A-892D2306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3F31-0F0F-4D26-841F-D336F7F6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B98E-8717-48ED-A845-D068E7F5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1A56-7199-401B-81C4-F880908F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2732-1817-4E29-8747-2FD5CE43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BA6-691A-449F-9407-116EF02C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9041-9F9E-4561-ADF7-A6BEFAA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75E1-3987-428C-8742-079DA7B8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349-F684-421A-8F6E-2C74E1D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138E-9307-4AB9-8CAA-49CDE2B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AA49-57AE-4A5D-96BB-67BCE07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D18C-E4F2-436E-BB3C-A0506AE2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5EFC-A8EB-431A-9BAE-F976CF36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9B6-3CA3-4348-A15C-9A5E0565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4AA-21B0-48AA-8F19-FC3436B2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3BC-FAE3-4B51-A107-B99217E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4D7-A1B0-44E6-B3F1-493E60B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117-BABD-4D45-ADF9-BD20DCE4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6CC-1B8B-4821-9021-930272B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301-E88C-4BC7-B4D1-4B68484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7AF-2085-44BA-96DE-D27FB42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F22-D403-4193-BD16-17A5892779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296F-5BA6-4AA4-BF3F-E0D466D39E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Oct.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cuss ch. 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ch. 14 and 15 for home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Dad and me wanted to capture a baby moose and take it home said Sven but than we found out they might grow to 2000 pou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gression:story::______:ro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shiper:reverent::____:pon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. 12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rry feels a sense of happiness after his pass to Goober on the football field. What does he find taped to his locke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. 1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was Jerry’s assign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on makes a point of saying the chocolate sale is optional, is it reall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apters 14 and 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3:07:10Z</dcterms:created>
  <dc:creator>VMS</dc:creator>
  <dc:description/>
  <dc:language>en-US</dc:language>
  <cp:lastModifiedBy>VMS</cp:lastModifiedBy>
  <dcterms:modified xsi:type="dcterms:W3CDTF">2009-10-13T20:08:54Z</dcterms:modified>
  <cp:revision>3</cp:revision>
  <dc:subject/>
  <dc:title>English</dc:title>
</cp:coreProperties>
</file>